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535-2999-4140-9E6C-840D9AC7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5D0-BD39-4111-B7D2-F4A55A9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EBB-2305-46F8-B2D2-0BD7DF1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F5B-CCE2-4F8A-8E8F-E34553D4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AD1-C12F-4DC5-B4F3-99C69183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FF0-0DE2-47F9-A9C2-33BA3D1D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05B-BD9C-434F-94AD-F73B1C6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57C-E98A-40B6-9480-27B4BD34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157-7A70-4336-8675-4C4F4B4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4F1-8AA2-4972-9158-DD88BE0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AEC-5474-42E5-923C-35369EB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851-F793-4C5A-A0E3-D131462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B6F8-E626-4634-B5EA-3A87423F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 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EPI Issu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70866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315200" cy="5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67053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4495680" cy="48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295280"/>
            <a:ext cx="541044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2392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615280" cy="48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39152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43000" y="2590920"/>
            <a:ext cx="67057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7467840" cy="155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800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6:17Z</dcterms:modified>
  <cp:revision>102</cp:revision>
  <dc:subject/>
  <dc:title>The Art in the State of the Art</dc:title>
</cp:coreProperties>
</file>